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7A0-95A6-49A3-8BC2-7F04D2F0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F74-6C2B-4749-8B99-7F7CE3E1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89F56-5574-42B6-AFC5-1636CE69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C792F-04DA-4BBA-85DB-9E90CF41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80125-7BB1-4CB1-9C86-4A1886F7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56D29-DAA0-4242-80EF-157E173F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C7DD1-01B5-4672-8955-1A416E91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51450-BE54-44A5-8A95-C2BA11CE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BB58F-EF98-4700-831F-791E1FAB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63814-087C-42A7-BF01-71E052CB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41968-B3D7-49CE-989E-901AFB54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FF36A-7D46-4319-B678-C0F34750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356-457F-4FF3-8275-8C10949A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C19A0-407B-484E-8AB5-14961109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89DBD-C6AC-46A0-97EC-E34760D6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A086D-E0DC-4317-9C41-C900A6BA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0C4E7-8EA4-4283-B34E-FBEF261F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BAE43-D656-423C-8FB1-5005C8E9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0FD38-2C3C-44B3-937A-5B6CEE32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22C92-0C66-4D5A-B93C-D0B4E76A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DD103-B512-498B-BD88-70BFD10F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7620F-6435-48EE-A5B4-1B58BB37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96FB4-D993-42C8-B5E8-721C9A85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F83-55E3-40CF-AD79-C3432D0C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9C2A1-B7C3-407C-86A2-766B54E3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62B89-2087-41AD-9F73-1629188F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9DE55-3F2A-47AE-AE3F-5E273F0D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262F9-BF9A-4948-AF3F-37EF2D28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71E49-9D25-4EB4-B527-27F8C3DB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400C6-804F-4986-B2A1-80E9F551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14E3F-5429-4214-A087-5E6D2D05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601A3-5E5C-422F-9007-D7B7B707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944F2-BB4A-4324-AFF6-2DE52269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80CAF-9FAA-4397-A20D-B39C636A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3FB6-2D65-4058-BFA4-2696A2CE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D6717-56D0-40E7-82E4-325CEFA4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5FE66-69D4-449F-82B3-E5C7B29A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52CD1-E287-4E60-8E6D-1624E519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201E8-560E-4136-8CC2-A4DDD88D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8130A-6762-4441-95AD-0814E84B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87213-75DD-4FA2-A09A-A879734A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D338A-4C40-44C0-AA20-0B004C18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988F9-1733-4D4B-80B6-93C98553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82AD0-F4C6-4571-B530-2B416892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74909-6B7B-4307-B2AC-8506CDCD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5F1A-5F4F-4057-8B37-28E08472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B1A3A-300E-4783-8383-1DB2CBE9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4A03E-8E96-4F6A-AD96-2B4522A2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C38FB-F81A-495A-BE5D-018E1202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5F0D3-E060-4C33-8AB8-01BF9432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F2897-5EFD-429C-9CDD-623F6C69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BAE0-369C-47A1-B9A7-4C93561C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90C5-85F9-40C3-9B75-A1BF8690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64DE-BEF0-42CC-B67C-33621D7B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692D-7945-40A9-8844-3EB4C3D9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CBCF-DD24-4713-8F00-4D11E65E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DA2B-5788-4FF6-AB6E-5FA8BFA5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0791-2628-427D-8688-3D123F84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35B7-E494-44A6-8414-9CF31F3F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12BB-20B7-4733-AA8F-5E7D3FB8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3C4C-1AE9-4AB9-9B25-B404CA7C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8074-D8B6-41F6-AE24-E7773EFB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23AFF-B00F-4FB9-9ADD-55BD8A7A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74E9-0610-489D-B86C-31371E1C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4DAA-0FFD-47A9-8F1A-469C8156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2DCB2-4F4B-4CD2-B31D-0515B496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EA1FD-D810-44D0-A0B0-16B97BFF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DBA-0796-429C-B006-52D182EC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9959F-CA09-4246-BEF7-FA263E3A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55910-09F1-4C5F-BD9B-B40648B5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2206D-3DCA-410E-BFA8-45DFED83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EA574-ED1A-44F7-A928-0A2610B3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9E49C-D2F4-4440-9D5C-10619BD0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E429-5BC8-4666-B337-21FE8892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5DCA3-2F69-4798-8004-C78F2D72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6240F-68B1-4879-B3FD-8E62DA4D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0BCD9-DBF5-49AF-A1F5-9E310C1B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08473-6F4B-473C-8D78-DCD81F72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AC0-6149-4290-B097-AEE7C4A9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AC16E-A7AE-4BB7-B69A-0A1C816E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A6629-5A6A-475A-94BC-BC5B0BF9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A5A1C-034D-44AC-AABA-AA8FCFAB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977DD-E279-4910-922C-1E5E142D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7B12C-9FBF-45AB-8563-813218D4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AE477-C856-4198-9426-64E1D6EC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61D06-F2AB-4DC5-901B-2DCCA449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06B11-1D65-478A-82A4-5E106DE2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0CBDA-03AB-4212-93F7-FA6D5681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0575B-4172-424B-BE02-3C71695F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717-F108-4D31-8270-9DA64A0C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C220B-6943-421D-9290-8556C4C4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36DD8-13F1-4ECC-B379-140CA4ED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A85C8-4F2B-4625-9D26-727D1F13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89487-40A4-40AB-BD8B-370A7862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82027-F929-470A-8E28-1CA8BC46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9EF12-9593-4643-9C81-823613FB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DFC7F-BF58-443E-9CB2-66DAD79C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EC4A9-AA82-4EF7-8FAE-6E6B7CC6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52892-CF8C-4714-B774-B3C12E01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60EDF-2CBE-41C6-BD8B-5AB96BA4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45B-80AC-42AF-BE5A-8D1CEA34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879F2-9702-4601-8018-8858375E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F68AF-A4C3-499B-8FFF-0F65EE94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495A8-D9AF-4193-BA31-721E6F1F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27403-7B89-461A-ACCC-69B00538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37441-AFB8-421A-9EF2-8D878962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03A0F-61EE-4C56-B669-7DFF0A82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D21DE-EBB5-4AEA-A7EA-3E44064E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CD081-39A4-4EF1-9A70-ACDFE413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3A1A7-ECAD-4F2A-915A-E8C70FF8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928A3-AD50-4688-B276-6C859373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19B9-D3BC-4B17-BD2F-867C521D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8D8E1-7E53-49AB-B187-E3AD499D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4EDA9-8CE1-456D-B776-78900CB1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71781-BE24-4B72-9414-DDB4B5EE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B988F-690B-435A-BE43-1A8AB47E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77A7B-5D96-4ED8-9BAD-E76C341D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5CE76-404B-4774-89C4-96DA6E72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59257-BBC8-4587-B2D4-1EF4EBAD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B2F98-78B5-4130-9BA2-A537C473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7DBFC-304C-43F4-914B-820B992F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D5C11-33ED-4CAA-8333-D88BF4F7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0B4-20BE-45BD-904D-472A9E16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6F745-0D60-4BE7-B9E3-C3B25387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5B849-E3FC-4EBF-B4A4-F816B431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17466-1F69-43E4-A842-A07AEF86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AD87C-8F9A-48B9-B8BA-3029D49A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76E8B-031A-4983-858B-52642D70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696CE-0C92-4343-B69D-C5E3A9D8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6EB78-D542-4533-9740-CA11471A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AD050-4FE1-492A-AA60-E41D9D78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0B461-EEE9-4F6C-8E28-6F7CE115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139C1-C646-4D6F-938A-3D307D68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076-F043-4D44-A2B6-2181D51D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52105-55BA-404B-B904-848A6AE2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3160C-D48A-4563-8BB0-F4F45343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19B46-5A69-4EEC-86BD-4374710B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295FE-3E5A-496B-A66B-100A5B66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5AC47-F2D7-4AD3-B68F-4A0B49DB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65AFD-BF37-46D1-A3EE-9CB2249E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CFC33-9A2F-419A-AD7F-2EC0A8AF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04BD7-8EBD-49E9-9CD8-5C14E6B9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11FEF-5FAB-48CA-A860-1A9705CB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F01F7-FFBF-453B-B22C-B0D4DFE0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E8B1-DCD9-4031-8E16-705D84E8196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C2F4-64BE-49D6-9C48-B9BD5895A8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A94F-1C45-4FF3-A1B5-418B4953571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2717-3067-4F1E-AD64-7FA96192D7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6EAC-8B72-4A1F-957F-3FA229B630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9CB9-55A4-4DC2-9DB3-3684DE5DA0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80DB-250B-479F-A68A-8B29A6AEBB9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7295-E7FC-4AA6-8051-2D6E6A0FEDE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0B25-DA05-464D-A5FF-D9526C17ABC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62D5-1B6B-42D4-B0B4-BDC5F2F6EE0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6729-188C-40E2-A74C-E1D71675A3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2E6B-4D20-449D-8A76-9F9F7E4454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31 Mysli na tie davy ľud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ysli na tie davy ľud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plnených veľkomies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hľad na ne súcit bu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reba im zvesť spásy n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é srdce skrýva túžb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živote blaženo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stal čas pre vernú služb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oli k žatve dozret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ristovi sa Boh sám z n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dným z ľudí navždy st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iedu našu vzal na s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stu k sláve uká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hanbe kríža za nás on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pil kalich hrozných múk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ej spásy pramení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prebodnutých jeho rú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 volá ubolený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všetkých končín, sveta str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ďte ku mne, unav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vám odpočinok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námahy, práce, znoj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 mňa pokoj nájde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je slová rany zho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 ich vierou prijmet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5:50:19Z</dcterms:modified>
  <cp:revision>35</cp:revision>
  <dc:subject/>
  <dc:title>Je veľký náš Pán, on slávy je Kráľ Nech do všetkých strán  spev vrúcnych znie chvál.</dc:title>
</cp:coreProperties>
</file>